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A8D-CECB-49B3-998A-587EEFFC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6F8-F391-41D3-AF02-A3B5036A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BB6-9EA4-4AC6-9E57-C431B025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738-0A56-4765-BF4F-E8F79EE0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9262-FF2C-4BCE-BD56-99812F89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AAD5-351E-4F41-89BC-FE4CEF85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F7DB-D865-402F-AAB2-52616A2B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88F2-23B7-4368-91C5-C6351018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AED1-FBF1-4AB6-868B-68933405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C4D5-62D5-463F-919E-096289B9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16BF-6095-4D66-B1F2-B6AC33B0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42E-E280-43BF-8A31-79516F92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D3E7-1FBE-475D-AD83-EBAEFED9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3380-8F56-4AF8-9F1A-9D6196C3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8F0F-6DC1-4F4C-8452-07A4F0BF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BBA8-8441-4C85-ADAB-A3E3D7FF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184F-DF70-4847-BBDB-C8713BF8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8B338-D2AD-46A4-BF9B-541CC872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6ECA3-0E3A-43FF-9FB5-F1001055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05F58-A8C3-4A64-8DCE-9B6D0B58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ABE85-FF04-4B6C-AE3D-9299F206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7E71-3ECB-4277-BA60-D2D06B69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F10-E037-4508-8D23-DF18BA4C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BC1EA-435B-4684-B760-C061AA9D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98CE5-A440-483C-A9AE-81424E37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7076-C600-425B-B752-01024A7E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6A32-416E-4FBC-9D1D-08834249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1FDC6-A9EF-4B7D-9483-09498334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22731-5459-4115-A2E3-4D364E47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73C09-6BB8-4DEA-8D37-B18179B0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750-5354-4511-AAF4-E31B78B6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B64-4790-4EC0-8962-306A7732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87D-B003-4F24-8865-44F42713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672-9A4D-4EA9-A261-D3A95DD9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D7E-52B0-45A3-B4A4-B1A45A37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507-F2E5-4CC0-AB99-A5DF4412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fld id="{6948DE33-369E-4413-8FB3-C9D413AFF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0A5C-A4F0-4722-8A09-7B07A53B2D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30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2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133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5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136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8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139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140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1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2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4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7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8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EF79EDCC-C42A-40F2-9674-EB4A0C40270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210E-31D0-4378-A858-B5740DF5FE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7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6 de abril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69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res?¿Como es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63425DE0-AF1D-46F5-A0E3-1E68577D5F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3399"/>
                </a:solidFill>
                <a:uFillTx/>
                <a:latin typeface="Comic Sans MS"/>
              </a:rPr>
              <a:t>Un Evento</a:t>
            </a:r>
            <a:r>
              <a:rPr b="0" i="1" lang="en-US" sz="7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clase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las och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fiesta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s conciertos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el parqu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5" descr="en00508_"/>
          <p:cNvPicPr/>
          <p:nvPr/>
        </p:nvPicPr>
        <p:blipFill>
          <a:blip r:embed="rId1"/>
          <a:stretch/>
        </p:blipFill>
        <p:spPr>
          <a:xfrm>
            <a:off x="3276720" y="4343400"/>
            <a:ext cx="251460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C2F04937-7871-4EDD-8BBF-FA011E390F2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3399"/>
                </a:solidFill>
                <a:uFillTx/>
                <a:latin typeface="Comic Sans MS"/>
              </a:rPr>
              <a:t>La preposición “de”</a:t>
            </a:r>
            <a:r>
              <a:rPr b="0" i="1" lang="en-US" sz="66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osses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Marí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58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teri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pupitre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metal y plástic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6" descr="bs01001_"/>
          <p:cNvPicPr/>
          <p:nvPr/>
        </p:nvPicPr>
        <p:blipFill>
          <a:blip r:embed="rId1"/>
          <a:stretch/>
        </p:blipFill>
        <p:spPr>
          <a:xfrm>
            <a:off x="3503520" y="4952880"/>
            <a:ext cx="213516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1C6B9FA8-A924-45E5-BF15-6AEA10C7EAF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a92d2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003399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287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 localizaci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s condicion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s opinion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52E9D58C-6624-4DAD-BE19-470BF54625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3399"/>
                </a:solidFill>
                <a:uFillTx/>
                <a:latin typeface="Comic Sans MS"/>
              </a:rPr>
              <a:t>La Localización</a:t>
            </a:r>
            <a:r>
              <a:rPr b="0" i="1" lang="en-US" sz="66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drid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Españ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 libros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Dónde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o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5" descr="an00106_"/>
          <p:cNvPicPr/>
          <p:nvPr/>
        </p:nvPicPr>
        <p:blipFill>
          <a:blip r:embed="rId1"/>
          <a:stretch/>
        </p:blipFill>
        <p:spPr>
          <a:xfrm>
            <a:off x="3333600" y="4730760"/>
            <a:ext cx="247500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73A2EBB1-C7FC-4D27-BF31-C7B4FAF877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3399"/>
                </a:solidFill>
                <a:uFillTx/>
                <a:latin typeface="Comic Sans MS"/>
              </a:rPr>
              <a:t>Las Condiciones</a:t>
            </a:r>
            <a:r>
              <a:rPr b="0" i="1" lang="en-US" sz="66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teléfono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cupad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cos y Elena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ervioso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eo siempre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ent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1" name="Picture 5" descr="pe03704_"/>
          <p:cNvPicPr/>
          <p:nvPr/>
        </p:nvPicPr>
        <p:blipFill>
          <a:blip r:embed="rId1"/>
          <a:stretch/>
        </p:blipFill>
        <p:spPr>
          <a:xfrm>
            <a:off x="3505320" y="4495680"/>
            <a:ext cx="21636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1414BBEE-183C-4BF5-8E7F-900A1EF196E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3399"/>
                </a:solidFill>
                <a:uFillTx/>
                <a:latin typeface="Comic Sans MS"/>
              </a:rPr>
              <a:t>Las Opiniones</a:t>
            </a:r>
            <a:r>
              <a:rPr b="0" i="1" lang="en-US" sz="66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 hermana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onita ho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pescado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uy buen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Sr. Sanchez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jugando bien al fútb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5" descr="j0079256"/>
          <p:cNvPicPr/>
          <p:nvPr/>
        </p:nvPicPr>
        <p:blipFill>
          <a:blip r:embed="rId1"/>
          <a:stretch/>
        </p:blipFill>
        <p:spPr>
          <a:xfrm>
            <a:off x="914400" y="4495680"/>
            <a:ext cx="2016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2: Capitulo 6 TOMORROW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. 200-2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72B3-9276-412E-AEFF-F680DF7092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itle 1"/>
          <p:cNvSpPr/>
          <p:nvPr/>
        </p:nvSpPr>
        <p:spPr>
          <a:xfrm>
            <a:off x="45720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Tarea # 6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750E7DF5-D553-451F-829E-98E6F3A7B35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99"/>
                </a:solidFill>
                <a:latin typeface="Comic Sans MS"/>
              </a:rPr>
              <a:t>Ser y Estar</a:t>
            </a: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 en español…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7960" y="29714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verbs mea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to be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ery differ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rregular conjug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5" descr="bs01923_"/>
          <p:cNvPicPr/>
          <p:nvPr/>
        </p:nvPicPr>
        <p:blipFill>
          <a:blip r:embed="rId1"/>
          <a:stretch/>
        </p:blipFill>
        <p:spPr>
          <a:xfrm>
            <a:off x="1184400" y="2971800"/>
            <a:ext cx="28112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D79A6BF4-89E4-44A1-95E0-8B16DA29224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¿Cuáles son las formas?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á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á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121120" y="23623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3399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767920" y="2362320"/>
            <a:ext cx="141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3399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F644CCE6-DB5A-4F7F-A746-3DE9CD61F42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¿Cuáles son los usos 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de estos verbos?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232" name="Picture 5" descr="bd05558_"/>
          <p:cNvPicPr/>
          <p:nvPr/>
        </p:nvPicPr>
        <p:blipFill>
          <a:blip r:embed="rId1"/>
          <a:stretch/>
        </p:blipFill>
        <p:spPr>
          <a:xfrm>
            <a:off x="2847960" y="2286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6BA14F5B-1527-4E2B-BB7D-F111E17680F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a92d2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003399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l orig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 identificaci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s característic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 hor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un even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possession, materi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922B654C-2A3D-4341-B0CF-C44F1C7D64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3399"/>
                </a:solidFill>
                <a:uFillTx/>
                <a:latin typeface="Comic Sans MS"/>
              </a:rPr>
              <a:t>El Origen</a:t>
            </a:r>
            <a:r>
              <a:rPr b="0" i="1" lang="en-US" sz="66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an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Españ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Guatemal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 primos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Buenos Air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Picture 6" descr="BD05680_"/>
          <p:cNvPicPr/>
          <p:nvPr/>
        </p:nvPicPr>
        <p:blipFill>
          <a:blip r:embed="rId1"/>
          <a:stretch/>
        </p:blipFill>
        <p:spPr>
          <a:xfrm>
            <a:off x="3273480" y="4802040"/>
            <a:ext cx="259560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55D6F587-31F1-423B-8672-EE7B3B29F68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3399"/>
                </a:solidFill>
                <a:uFillTx/>
                <a:latin typeface="Comic Sans MS"/>
              </a:rPr>
              <a:t>La Identificación</a:t>
            </a:r>
            <a:r>
              <a:rPr b="0" i="1" lang="en-US" sz="66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ú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 hermana de Ped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sotros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som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lumno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Sr. Ayala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fesor de españ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5" descr="PE01460_"/>
          <p:cNvPicPr/>
          <p:nvPr/>
        </p:nvPicPr>
        <p:blipFill>
          <a:blip r:embed="rId1"/>
          <a:stretch/>
        </p:blipFill>
        <p:spPr>
          <a:xfrm>
            <a:off x="3652920" y="4572000"/>
            <a:ext cx="18381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6B234BBE-4DC0-4BDA-AB03-A5A6A14D84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3399"/>
                </a:solidFill>
                <a:uFillTx/>
                <a:latin typeface="Comic Sans MS"/>
              </a:rPr>
              <a:t>Las Características</a:t>
            </a:r>
            <a:r>
              <a:rPr b="0" i="1" lang="en-US" sz="66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so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uy alto y delgad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men y Pablo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jóven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a clase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urrid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5" descr="bd06630_"/>
          <p:cNvPicPr/>
          <p:nvPr/>
        </p:nvPicPr>
        <p:blipFill>
          <a:blip r:embed="rId1"/>
          <a:stretch/>
        </p:blipFill>
        <p:spPr>
          <a:xfrm>
            <a:off x="3276720" y="4602240"/>
            <a:ext cx="259056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D9ECC87D-F348-48E5-9FC8-C17C4B12B48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3399"/>
                </a:solidFill>
                <a:uFillTx/>
                <a:latin typeface="Comic Sans MS"/>
              </a:rPr>
              <a:t>La Hora y la fecha</a:t>
            </a:r>
            <a:r>
              <a:rPr b="0" i="1" lang="en-US" sz="7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é hora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s tres de la tar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y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16 de abri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5" descr="bs00965_"/>
          <p:cNvPicPr/>
          <p:nvPr/>
        </p:nvPicPr>
        <p:blipFill>
          <a:blip r:embed="rId1"/>
          <a:stretch/>
        </p:blipFill>
        <p:spPr>
          <a:xfrm>
            <a:off x="3252960" y="4513320"/>
            <a:ext cx="2636640" cy="234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olseng</dc:creator>
  <dc:description/>
  <dc:language>en-US</dc:language>
  <cp:lastModifiedBy>Helen Zumaeta</cp:lastModifiedBy>
  <cp:lastPrinted>2015-03-17T13:02:03Z</cp:lastPrinted>
  <dcterms:modified xsi:type="dcterms:W3CDTF">2015-04-16T15:16:41Z</dcterms:modified>
  <cp:revision>109</cp:revision>
  <dc:subject/>
  <dc:title>Ser &amp; Estar</dc:title>
</cp:coreProperties>
</file>